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719-D5E6-4924-9C1D-CF2B1898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00F-54DA-44EB-AF34-4D5BE0BF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B2A-76FF-4DAF-B6FE-FD93C0E9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455-4461-4937-B6BE-7ADD8CB1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83C4-DBB4-4DE9-B522-B10C9FC1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0DFA-C9B7-4170-862C-85624D4C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D196-29E4-4069-B046-ABD6FC53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9E50-F5CE-4278-A4B4-D8A7834F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0850-76DC-436A-92DD-7824DE68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8471-3930-462C-9AFA-0C07B0AA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D59B-4750-4409-8EB6-3A229E8F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6F7-9636-4935-B050-A89A2F90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6810-3D93-4D78-96C7-49BA75B3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4928-B7E1-49DE-993A-FDAF4BAB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D645-A93B-4D68-ADC6-BF232A24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5084-A7A3-434B-A8D2-7F9D4232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0F9F-82E3-4BF0-B4EA-798B664E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ED2-68C5-4134-B1BB-8BF2AC3E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E08-5C51-49F2-9750-66FE4189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334-21AF-4A41-8B29-71EB3BA9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433-4545-41AA-8122-99BA8993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543-503E-4CC3-9575-0C3E853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0E3-D734-4DA2-818D-8E6B627B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C3C-7D81-42BD-B86B-A35768B8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1A61-F9E2-4A57-BE46-C4E6444822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DD0D-6508-4FFA-BA42-D87410E80A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87;&#1088;&#1080;&#1084;&#1077;&#1088;&#1099;%20&#1073;&#1072;&#1088;&#1100;&#1077;&#1088;&#1086;&#1074;%20&#1074;%20&#1086;&#1073;&#1097;&#1077;&#1085;&#1080;&#1080;&amp;spsite=fake-005-870270.ru&amp;img_url=narodna.pravda.com.ua%2Fimages%2Fdoc%2F07389-picture1.jpg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Барьеры обще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берите у меня все, чем я обладаю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оставьте мне мою речь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скоро я обрету все, что име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аниэл Уэбс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зное социальное положение партнеров …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препятствовать общению, если один из них привык испытывать трепет перед начальств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отрицательных эмоций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общении с расстроенным челове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im7-tub.yandex.net/i?id=92133543&amp;tov=7"/>
          <p:cNvPicPr/>
          <p:nvPr/>
        </p:nvPicPr>
        <p:blipFill>
          <a:blip r:embed="rId1"/>
          <a:stretch/>
        </p:blipFill>
        <p:spPr>
          <a:xfrm>
            <a:off x="5148360" y="3699000"/>
            <a:ext cx="374472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ояние здоровья челове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ям не составляет большого труда по внешним признакам догадаться о том, что происходит с человеком, выбрать соответствующий тон, слова или сократить время общения, чтобы не утомлять собеседника, которому нездоровитс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сихологическая защит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вана желанием собеседника защититься от ва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Grafik 4" descr="heidelberg.jpg"/>
          <p:cNvPicPr/>
          <p:nvPr/>
        </p:nvPicPr>
        <p:blipFill>
          <a:blip r:embed="rId1"/>
          <a:stretch/>
        </p:blipFill>
        <p:spPr>
          <a:xfrm>
            <a:off x="4716360" y="3573360"/>
            <a:ext cx="39592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установки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когда деловой партнер обладает негативной установкой по отношению к вам или к фирме, представителем которой вы являетес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двойни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том, что мы невольно судим о каждом человеке по себе, ждем от делового партнера такого поступка, какой совершили бы на его мест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ммуникативные барьеры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мантический барьер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выражать свои мысл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хая техника реч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слушать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модальносте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характер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9"/>
          <p:cNvPicPr/>
          <p:nvPr/>
        </p:nvPicPr>
        <p:blipFill>
          <a:blip r:embed="rId1"/>
          <a:stretch/>
        </p:blipFill>
        <p:spPr>
          <a:xfrm>
            <a:off x="5508720" y="3933720"/>
            <a:ext cx="3095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мантический барьер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бое слово имеет обычно не одно, а несколько значений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мысловые» поля у разных людей разны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пользуются жаргонные слова, тайные языки, часто употребляемые в какой-либо группе образы, прим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выражать свои мысли (логический барьер) ..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.. возникает, если человек, с нашей точки зрения, говорит или делает что-то в противоречии с правилами логики; тогда мы не только отказываемся его понимать, но и эмоционально воспринимаем его слова отрицатель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Рисунок 7" descr="http://im2-tub.yandex.net/i?id=153384587&amp;tov=2"/>
          <p:cNvPicPr/>
          <p:nvPr/>
        </p:nvPicPr>
        <p:blipFill>
          <a:blip r:embed="rId1"/>
          <a:stretch/>
        </p:blipFill>
        <p:spPr>
          <a:xfrm>
            <a:off x="6156360" y="4292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лохая техника речи (фонетический барьер)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на иностранном язык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ют большое число иностранных слов или специальную терминологию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быстро, невнятно и с акцент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евыразительная речь, речь-скороговорка, звуки-паразиты, дефекты реч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"Барьер" общения – это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ое препятствие на пути адекватной передачи информации между партнерами по общению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356000" y="4076640"/>
            <a:ext cx="4249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слушать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является в том, что партнер перебивает, начинает говорить о своем или уходит в собственные мысли и вовсе не реагирует на ваши сл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9" descr="http://proletarism.org/images/1_33.gif"/>
          <p:cNvPicPr/>
          <p:nvPr/>
        </p:nvPicPr>
        <p:blipFill>
          <a:blip r:embed="rId1"/>
          <a:stretch/>
        </p:blipFill>
        <p:spPr>
          <a:xfrm>
            <a:off x="6361200" y="3714840"/>
            <a:ext cx="2135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модальностей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человек не задумывается о приоритетном канале восприятия информ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TheSimpsons"/>
          <p:cNvPicPr/>
          <p:nvPr/>
        </p:nvPicPr>
        <p:blipFill>
          <a:blip r:embed="rId1"/>
          <a:stretch/>
        </p:blipFill>
        <p:spPr>
          <a:xfrm>
            <a:off x="5364000" y="3860640"/>
            <a:ext cx="35290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характер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и с ярко выраженными особенностями темперамента могут быть неудобными собеседник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евежливость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тот барьер, который мешает и правильно воспринимать партнера, и понимать, что он говорит, и взаимодействовать с н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 процессе делового общения различают следующие «барьеры»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авторитет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избегание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непонимание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i-main-pic" descr="Картинка 198 из 758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авторитет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делив всех людей на авторитетных и неавторитетных, человек доверяет только первым и отказывает в доверии други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i-main-pic" descr="Картинка 129 из 64000"/>
          <p:cNvPicPr/>
          <p:nvPr/>
        </p:nvPicPr>
        <p:blipFill>
          <a:blip r:embed="rId1"/>
          <a:stretch/>
        </p:blipFill>
        <p:spPr>
          <a:xfrm>
            <a:off x="5940360" y="3716280"/>
            <a:ext cx="2616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тнесение человека к авторитетным зависит от следующих факторов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ого положения (статус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ре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лекательного внешнего ви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брожелательного отнош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етент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избегание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избегает источников воздействия, уклоняется от контакта с собеседни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ановлено, что чаще всего барьер обусловлен той или иной степенью невним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ивлечь внимание можно при использовании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нейтральной фразы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авлечен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рительного контакт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«непонимани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точник информации заслуживает доверия, авторитетен, однако информация «не доходит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i-main-pic" descr="Картинка 385 из 64000"/>
          <p:cNvPicPr/>
          <p:nvPr/>
        </p:nvPicPr>
        <p:blipFill>
          <a:blip r:embed="rId1"/>
          <a:stretch/>
        </p:blipFill>
        <p:spPr>
          <a:xfrm>
            <a:off x="2556000" y="3429000"/>
            <a:ext cx="3552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ши типичные ошибк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ые ожидания в отношении партне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м кажется, что партнер должен догадываться о том, что мы чувству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улавливаем подтекст разгово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если поведение человека нам неприятно, нам кажется, что он плохо к нам относится или даже делает это нам назл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ы стараемся оправдать ожидания собеседни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ы взаимодействия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тивационны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тилей общен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некомпетент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 какому типу собеседников относитесь вы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А (видеть): 1, 5, 8, 10, 12, 14, 19, 21, 23, 27, 31, 32, 39, 40, 42, 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В (ощущать): 3, 4, 9, 11, 16, 18, 22, 25, 28, 29, 30, 35, 38, 41, 44, 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С (слышать): 2, 6, 7, 13, 15, 17, 20, 24, 26, 33, 34, 36, 37, 43, 46, 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тивационны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если у партнеров разные мотивы вступления в конта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один заинтересован в развитии общего дела, а другого интересует только немедленная прибы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ически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взаимодействию с партнером мешает его нравственная позиция, несовместимая с ваш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tretch/>
        </p:blipFill>
        <p:spPr>
          <a:xfrm>
            <a:off x="395280" y="3933720"/>
            <a:ext cx="3887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стилей общения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висит от темперамента, характера, мировоззрения и формируется под влиянием воспитания, окружения, профе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Рисунок 10" descr="http://im3-tub.yandex.net/i?id=153736409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824280"/>
            <a:ext cx="3456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некомпетентности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некомпетентность партнера вызывает чувство досады, ощущение потерянного време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ы восприятия и понимания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сте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ное социальное полож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отрицательных эмоци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остояние здоровь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ая защит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установ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двой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troe-iz-prostokvashino-pir-2"/>
          <p:cNvPicPr/>
          <p:nvPr/>
        </p:nvPicPr>
        <p:blipFill>
          <a:blip r:embed="rId1"/>
          <a:stretch/>
        </p:blipFill>
        <p:spPr>
          <a:xfrm>
            <a:off x="5651640" y="4005360"/>
            <a:ext cx="3166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стетический барьер …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партнер неопрятно, неряшливо одет или обстановка в его кабинете, вид рабочего стола не располагают к бесед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http://im2-tub.yandex.net/i?id=441345&amp;tov=2"/>
          <p:cNvPicPr/>
          <p:nvPr/>
        </p:nvPicPr>
        <p:blipFill>
          <a:blip r:embed="rId1"/>
          <a:stretch/>
        </p:blipFill>
        <p:spPr>
          <a:xfrm>
            <a:off x="3995640" y="4292640"/>
            <a:ext cx="33130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5:44:03Z</dcterms:created>
  <dc:creator>Admin</dc:creator>
  <dc:description/>
  <dc:language>en-US</dc:language>
  <cp:lastModifiedBy>Owner</cp:lastModifiedBy>
  <dcterms:modified xsi:type="dcterms:W3CDTF">2012-08-19T00:48:33Z</dcterms:modified>
  <cp:revision>8</cp:revision>
  <dc:subject/>
  <dc:title>Барьеры общения</dc:title>
</cp:coreProperties>
</file>